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C08-0F38-4BCD-BB96-B3AA33C5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908-3C80-4414-9AF7-2AFA4D7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061-2D64-4613-B1F5-06A85EF6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7A8-8A34-46F9-888D-5BBCAF62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F543-F6AA-4F00-AC71-6C9DE0C6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3120-8999-4AF6-86AA-F8F201B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0A6E-535E-4470-92FE-C087BD9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9359-A4AB-4D20-843A-54AFBA1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727-C86D-4AF1-A550-7AF4A086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0D3A-05F6-46E1-8277-50746DB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7B9-3AE3-4AF5-9D3D-AAF69AA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245-77C1-418F-B517-08F79B4C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DE97-F684-4B23-8296-5CA5734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D716-87EA-4FC1-917A-DD5FCEF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19E-7758-4098-9107-4E81CFF7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BF1-CB8E-463A-B70A-19CE17E0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C04C-A432-4681-BCAB-F946BB0D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6A6-3475-424F-993F-2A89167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71E-FF0F-4816-AF5D-6080684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584-07E9-42DD-88EA-19D040F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DFB-BAB6-4081-B9C9-5CF52C88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DF4-AC77-48D5-B5BF-59E18A4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14E-05BE-42C3-B395-E37A7FE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3A2-A0CC-47A8-B7C3-F373A8C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7D21-1696-4F9D-B964-8395A684759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5B27-1792-46E5-9BE6-EEFDE58EBFD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Your Name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04776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AP Calculus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Adv. Algebra and Trig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Period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996633"/>
                </a:solidFill>
                <a:uFillTx/>
                <a:latin typeface="Times New Roman"/>
              </a:rPr>
              <a:t>Notebook Setup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Notebook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Date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Assignment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Pencil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rrections </a:t>
            </a:r>
            <a:r>
              <a:rPr b="0" lang="en-US" sz="3000" spc="-1" strike="noStrike">
                <a:solidFill>
                  <a:srgbClr val="fc042d"/>
                </a:solidFill>
                <a:latin typeface="Times New Roman"/>
              </a:rPr>
              <a:t>(in non-black pen)</a:t>
            </a: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Organization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7 tabs: 1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2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4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handouts, notesheets, homework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lled-in note sheets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ntent -- 30 pts</a:t>
            </a:r>
            <a:r>
              <a:rPr b="0" lang="en-US" sz="31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*Entire notebook (August – May)  due at the end of the ye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nd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rd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th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ead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ame </a:t>
            </a:r>
            <a:r>
              <a:rPr b="0" lang="en-US" sz="3500" spc="-1" strike="noStrike">
                <a:solidFill>
                  <a:srgbClr val="402000"/>
                </a:solidFill>
                <a:latin typeface="Times New Roman"/>
              </a:rPr>
              <a:t>(Student #)</a:t>
            </a:r>
            <a:endParaRPr b="0" lang="en-US" sz="3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Date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it took to complete assignmen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ssignmen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17:51:52Z</dcterms:created>
  <dc:creator>SCPS</dc:creator>
  <dc:description/>
  <dc:language>en-US</dc:language>
  <cp:lastModifiedBy>Jackie Wetmore</cp:lastModifiedBy>
  <dcterms:modified xsi:type="dcterms:W3CDTF">2014-08-18T15:42:06Z</dcterms:modified>
  <cp:revision>28</cp:revision>
  <dc:subject/>
  <dc:title>Mrs. Wetmore</dc:title>
</cp:coreProperties>
</file>